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C12-8608-4050-818C-30DD702FA35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B80F-0558-43A9-A9B6-5BA8F363A88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C2B-452D-4791-8CB2-750EF3C1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B49-6F7A-4EE4-92E8-F67784E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06F-19C3-4A48-A589-4AF11BAB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D77-4D8F-4A9E-B1FD-D06AA80B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00C-4942-499C-BB13-6339C56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0B8-F02F-4CA1-B510-5689311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1EB-74D7-4B35-BAA4-64ABCD2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E7A-9B38-4C7F-828F-F5CEC6E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BC2-D6E7-4C07-BF95-9B2A569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114-FF18-4629-94DA-8E7D098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AC0-FA61-492B-87CD-A9ED0CA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C55-AF53-4C52-9BE0-0DDA661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905D-4B87-4B6F-A0B8-318BD2AFE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tion Y/Millenn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name and describe three or f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s (political/economic/so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llustrate the styles and manners of today’s youth/cul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th Amendment gave federal government power to pass Volstead Act of 1920 that prohibits production, sale, or transport of alcoholic bevera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ption of alcohol re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hibition resented in urban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tlegging became big business (crime increas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ing, Coolidge, and Ho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turn to "normalcy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iffs ra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porate, income taxes c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nding c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-business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ublican presidents appealed to traditional American val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lidge represented America in his austerity and rectit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over represented the self-made m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rban wing of the Democratic party  emerged as the most powerful forc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ill divided between rural and urban democ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ld and the N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historical view:  The Depression ended the spirit of the twe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historical view: The twenties laid the foundations of modern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ne Individual needs to be the spokesperson of the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Choose a side!!!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1=Politics and Govern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ere the 20’s a retreat from Progressivism or an extension of refor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2=Economic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ere the 20’s a business paradise or an economic black hol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3=Cultural Clash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as this an age of unlawful protest or legal repress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4=Diplomacy and Foreign Affai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Are the 20’s best remembered as a period of isolation or one of internationalis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5=Mass Cul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as the so-called “Jazz Age” characterized as carefree or insecu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What similarities do you see between the image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at differences do you see between the image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What conflict is being suggested by the imag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2057400"/>
            <a:ext cx="4648320" cy="364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04920" y="6095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 Hopper, Automat, 19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4495680" cy="3654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876920" y="60958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Sloan, 6th Ave Elevated, 19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ITION TO MODERN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apter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Economic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Industrial Rev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ctricity replaced stea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odern assembly introduce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ies meant new industries and 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s: automobiles, radio, motion pictures, marketing, advertising, etc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ig business weakened regionalism, brought uniformity to Americ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developed the highest standard of living in the wor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IVI7233538"/>
          <p:cNvPicPr/>
          <p:nvPr/>
        </p:nvPicPr>
        <p:blipFill>
          <a:blip r:embed="rId2"/>
          <a:stretch/>
        </p:blipFill>
        <p:spPr>
          <a:xfrm>
            <a:off x="4800600" y="1523880"/>
            <a:ext cx="35956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Weak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lroads poorly man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 displaced by petrol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faced decline in exports,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disparity between income of laborers, middle-class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class speculating with money (stock mark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in Cultural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y Life in the Jazz 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rlem Renaissance-African Americans prominent in music, poet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increase in urban popul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kyscrapers symbolized the new mass cultu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munities of home, church, and school were absent in the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ade was notable for obsessive interest in celebrities and s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elebrities -Charles Lindbergh, Gertrude Eder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orts-Jack Dempsey, Babe Ruth, etc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starting to challenge conformity (equal righ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apper Girls (minority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xual revoluti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25: Scopes Trial discredited fundamentalism among intellect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undamentalists vs. Modernist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Exiled" American writers put U.S. in forefront of world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y were bewildered by the rapid changing social patterns and appalled by the materialism of America as well as the wastefulness of WWI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.S. Eliot, Ernest Hemingway, F. Scott Fitzgerald, etc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ral Counter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ral Americans identified urban culture with Communism, crime, immo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s attempted to force reform on the Americ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surge of bigo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a of r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19:  “Red Scare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egal roundups of innocent peop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cible deportation of ali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rorism against “radicals,” immigr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cco and Vanzetti execu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25: Klan membership hit 5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olence, internal corruption resulted in Klan’s virtual disappearance by 193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24: National Origins 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otas favored northern Europea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xican immigrants exempted from quo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5:26:25Z</dcterms:created>
  <dc:creator>Timothy Hall</dc:creator>
  <dc:description/>
  <cp:keywords/>
  <dc:language>en-US</dc:language>
  <cp:lastModifiedBy>Thaddeus J. Brooks</cp:lastModifiedBy>
  <cp:lastPrinted>2012-09-21T06:17:17Z</cp:lastPrinted>
  <dcterms:modified xsi:type="dcterms:W3CDTF">2013-10-28T14:17:10Z</dcterms:modified>
  <cp:revision>28</cp:revision>
  <dc:subject/>
  <dc:title>CHAPTER 25 TRANSITION TO MODERN AMERICA</dc:title>
</cp:coreProperties>
</file>